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9320" cy="446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963600" y="-360"/>
            <a:ext cx="3019320" cy="446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99880" y="690120"/>
            <a:ext cx="458460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99840" y="4366800"/>
            <a:ext cx="5584680" cy="41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19320" cy="446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963600" y="8732520"/>
            <a:ext cx="3019320" cy="446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9497C-F540-4C02-A0F8-77A8AD37FE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99840" y="4366800"/>
            <a:ext cx="5592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on't talk about compartments, but rather about EXPRESS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00200" y="4366800"/>
            <a:ext cx="55864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00200" y="4366800"/>
            <a:ext cx="55864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00200" y="4366800"/>
            <a:ext cx="55864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00200" y="4366800"/>
            <a:ext cx="55864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0CC-6756-4188-BA5A-9F03282B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C7E-D1A4-42B5-96C6-B822AA0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97D-25A5-4416-953B-5493E8A9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C7D-8E7A-455E-8A1E-9EEDA4C9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1C9-E4C9-4184-A1A1-7AAEB180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703-EBB3-45D5-81DF-4215B5CD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B7F-18CF-46D3-9038-02E8A87D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D2E-E56C-4A51-8409-4495F13D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70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069-CA85-4E97-875D-B5830E07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79B-32F1-4101-8F65-B604718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114-AB37-4098-9364-6B5F98D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92F-3FC6-4E17-9457-7B23FAC1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53C48-AA2E-49A9-9E03-7C7A6398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6988320"/>
            <a:ext cx="540396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154320"/>
            <a:ext cx="2666880" cy="233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314640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279000"/>
            <a:ext cx="78771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Glypican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osophil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wing  imaginal disc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 pattern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3280" y="2362320"/>
            <a:ext cx="5410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500" spc="-1" strike="noStrike">
                <a:solidFill>
                  <a:srgbClr val="ffffff"/>
                </a:solidFill>
                <a:latin typeface="Arial"/>
              </a:rPr>
              <a:t>Solving biological problems with Maths – Prof. Bergman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52280" y="578016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600" spc="-1" strike="noStrike">
                <a:solidFill>
                  <a:srgbClr val="00ff00"/>
                </a:solidFill>
                <a:latin typeface="Verdana"/>
                <a:ea typeface="Arial"/>
              </a:rPr>
              <a:t>Aitana Morton de Lachap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Verdana"/>
                <a:ea typeface="Arial"/>
              </a:rPr>
              <a:t>Department of Medical Genetics – UN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  <a:ea typeface="Arial"/>
              </a:rPr>
              <a:t>&amp; Swiss Institute of Bioinfor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  <a:ea typeface="Arial"/>
              </a:rPr>
              <a:t>Group of Sven Berg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43600"/>
            <a:ext cx="2971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320" y="6095880"/>
            <a:ext cx="1068120" cy="54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838080" cy="5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209680" y="6019920"/>
            <a:ext cx="68580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800" spc="-1" strike="noStrike">
                <a:solidFill>
                  <a:srgbClr val="3399ff"/>
                </a:solidFill>
                <a:latin typeface="Verdana"/>
              </a:rPr>
              <a:t>Introduction : morphogè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878040"/>
            <a:ext cx="762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n biologie du développement, un </a:t>
            </a:r>
            <a:r>
              <a:rPr b="1" i="1" lang="fr-CH" sz="1800" spc="-1" strike="noStrike">
                <a:solidFill>
                  <a:srgbClr val="000000"/>
                </a:solidFill>
                <a:latin typeface="Arial"/>
              </a:rPr>
              <a:t>morphogène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est une molécule secrétée ayant la propriété d'induire des types cellulaires (TC) différents à des concentrations diffé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e morphogène est généralement produit en une source localisée puis diffuse dans le tissu/embryon pour déterminer le motif d'expression des gènes c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55760" y="6280200"/>
            <a:ext cx="608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163160" y="4917960"/>
            <a:ext cx="8794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163160" y="5589720"/>
            <a:ext cx="1544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3840" y="469116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1880" y="537372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-309240" y="489492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12480" y="606096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98680" y="4756320"/>
            <a:ext cx="6256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3880" y="638316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46040" y="6383160"/>
            <a:ext cx="6098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2400" y="3124080"/>
            <a:ext cx="1219320" cy="45720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35040" y="4083120"/>
            <a:ext cx="5486400" cy="2082600"/>
          </a:xfrm>
          <a:custGeom>
            <a:avLst/>
            <a:gdLst/>
            <a:ahLst/>
            <a:rect l="l" t="t" r="r" b="b"/>
            <a:pathLst>
              <a:path w="3456" h="1312">
                <a:moveTo>
                  <a:pt x="0" y="0"/>
                </a:moveTo>
                <a:cubicBezTo>
                  <a:pt x="188" y="352"/>
                  <a:pt x="376" y="704"/>
                  <a:pt x="720" y="912"/>
                </a:cubicBezTo>
                <a:cubicBezTo>
                  <a:pt x="1064" y="1120"/>
                  <a:pt x="1608" y="1184"/>
                  <a:pt x="2064" y="1248"/>
                </a:cubicBezTo>
                <a:cubicBezTo>
                  <a:pt x="2520" y="1312"/>
                  <a:pt x="3224" y="1288"/>
                  <a:pt x="3456" y="1296"/>
                </a:cubicBezTo>
              </a:path>
            </a:pathLst>
          </a:custGeom>
          <a:noFill/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343160" y="3687480"/>
            <a:ext cx="1440" cy="260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168560" y="5916600"/>
            <a:ext cx="27302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0080" y="573264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65480" y="63738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C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4720" y="63817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46320" y="3014640"/>
            <a:ext cx="2209680" cy="68580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4200" y="63738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09840" y="63752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23920" y="4917960"/>
            <a:ext cx="1800" cy="324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5589720"/>
            <a:ext cx="32040" cy="294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92680" y="5921280"/>
            <a:ext cx="31680" cy="269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7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800" spc="-1" strike="noStrike">
                <a:solidFill>
                  <a:srgbClr val="3399ff"/>
                </a:solidFill>
                <a:latin typeface="Verdana"/>
              </a:rPr>
              <a:t>Introduction : D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878040"/>
            <a:ext cx="7620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pp est un morphogène présent dans le disc imaginal de l'a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l détermine l'axe antérieur-postérieur de l'a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51440" y="2805120"/>
            <a:ext cx="377172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42764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800" spc="-1" strike="noStrike">
                <a:solidFill>
                  <a:srgbClr val="3399ff"/>
                </a:solidFill>
                <a:latin typeface="Verdana"/>
              </a:rPr>
              <a:t>Introduction : glyp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4332240"/>
            <a:ext cx="730080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800" spc="-1" strike="noStrike">
                <a:solidFill>
                  <a:srgbClr val="3399ff"/>
                </a:solidFill>
                <a:latin typeface="Verdana"/>
              </a:rPr>
              <a:t>Buts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9400" y="1506240"/>
            <a:ext cx="8218440" cy="19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mprendre le rôle des morphogènes en biologie du développ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rpréter les résultats expérimentaux présentés dans la litérature scientif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mprendre le rôle des glypicans dans la formation du gradient de D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760" y="3594240"/>
            <a:ext cx="82184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éfléchir quantitativement aux phénomè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oser un problème mathématiquement (simulations dans le temps et l'espac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pprendre à utiliser le logiciel d'analyse de données et simulations Mat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rpréter des résultats biologiques à l'aide d'outils mathémat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Aitan</dc:creator>
  <dc:description/>
  <dc:language>en-US</dc:language>
  <cp:lastModifiedBy>Aitana Morton de Lachapelle</cp:lastModifiedBy>
  <cp:revision>0</cp:revision>
  <dc:subject/>
  <dc:title>Diapositive 1</dc:title>
</cp:coreProperties>
</file>